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326503"/>
        <c:axId val="32532140"/>
      </c:barChart>
      <c:catAx>
        <c:axId val="103265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32140"/>
        <c:crosses val="autoZero"/>
        <c:auto val="1"/>
        <c:lblAlgn val="ctr"/>
        <c:lblOffset val="100"/>
        <c:noMultiLvlLbl val="0"/>
      </c:catAx>
      <c:valAx>
        <c:axId val="325321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265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93A8-9D49-421C-9F54-5235D973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40F0-79EF-4921-A83B-038C8F24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136B-7B2C-4E3C-9624-FC5737E6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80C0-C6A0-4E4B-BF36-50177DA6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4766-8852-4C8A-AACA-A7424939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4409-C595-440C-88A4-3C0D8DF7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B778-DB25-4536-BAEC-31240BD5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ED24-64B9-46E1-B736-FBE32B3B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6D95-04FF-4E5A-BF11-4055C78A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5086-16E4-457D-A5B7-F20535DB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BC2F-08AA-45B0-BE15-E3528736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B9DA-619E-4D95-8230-D90D2A8B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92888-FDA6-4C14-AD8A-E5BF91C1F6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