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81097"/>
        <c:axId val="54659723"/>
      </c:barChart>
      <c:catAx>
        <c:axId val="32781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59723"/>
        <c:crosses val="autoZero"/>
        <c:auto val="1"/>
        <c:lblAlgn val="ctr"/>
        <c:lblOffset val="100"/>
        <c:noMultiLvlLbl val="0"/>
      </c:catAx>
      <c:valAx>
        <c:axId val="54659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81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459-05E0-47ED-867D-3D4D25D6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D6B-DEF3-4BBF-B4BA-83FBBB0E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68D-4581-4C11-A86C-24A0EE4F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B38-2339-464A-B33D-6E39CFC7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11D-5D97-4F4A-B3CA-622E97C9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A44-FAEB-45C0-9A23-6BE0B4A9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578-621F-4269-9462-A918243B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B74-2EE1-459C-B94C-DC2EF913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1BF-F7F1-4667-BF5D-8718CCE1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4A9-4A12-4A5F-8502-02A64623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3BB-3481-4A3B-9633-BD2B0662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71C-19CE-4CF5-8393-F22F6C5C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DA31D-1137-48C6-853D-6743B8826B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