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63528"/>
        <c:axId val="57952478"/>
      </c:barChart>
      <c:catAx>
        <c:axId val="63163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2478"/>
        <c:crosses val="autoZero"/>
        <c:auto val="1"/>
        <c:lblAlgn val="ctr"/>
        <c:lblOffset val="100"/>
        <c:noMultiLvlLbl val="0"/>
      </c:catAx>
      <c:valAx>
        <c:axId val="57952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63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E44-CAA6-4231-9923-D27E27E7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042-7D3F-4FE5-8EBF-B13842B8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0E5-720A-4492-9AD6-425CCD53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B30-6FD0-46B9-AF23-477BF4D6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6B6-3E5D-4B9F-AFF7-15F2953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76E-5170-41BF-8F8C-1FA44B7E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BFD-0CBF-466C-BEFB-5AF6F2D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560-AF5C-4898-91B6-9F575EC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22A-F528-4AD1-8C01-3CE4409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979-A017-4B3B-920A-57B518A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37A-E0D8-4CCA-9313-25BFA60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F1F-3AAE-46ED-8D50-6FA8D0CB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2F34E-DCB7-4A5E-9160-1899B8B89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