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12081"/>
        <c:axId val="8229681"/>
      </c:barChart>
      <c:catAx>
        <c:axId val="10912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9681"/>
        <c:crosses val="autoZero"/>
        <c:auto val="1"/>
        <c:lblAlgn val="ctr"/>
        <c:lblOffset val="100"/>
        <c:noMultiLvlLbl val="0"/>
      </c:catAx>
      <c:valAx>
        <c:axId val="8229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2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F60-9E07-4609-A2D6-9529B879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EF2-5319-4190-9CFF-753205B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3F4-6EA2-4C3E-BC60-6C4BBEBB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5D6-2C95-464D-8861-486DDDEF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480-9BD4-439C-AA5B-8B1E5F81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CF1-2DC0-4D1E-9D61-1A63B18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F82-BB58-4C08-A71A-EE5DE844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392-AA63-4353-A349-339C159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ED5-A2FE-488D-915A-FF3BC71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6BB-D0DE-4E43-AF4E-B4C5A1C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EAD-3A4C-4BF4-BD86-4064FBE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88D-56D9-4F7D-8249-CF0A2FB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33F6C-FFE9-458C-86ED-EF5B824FA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