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85"/>
        <c:axId val="84714447"/>
      </c:barChart>
      <c:catAx>
        <c:axId val="7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14447"/>
        <c:crosses val="autoZero"/>
        <c:auto val="1"/>
        <c:lblAlgn val="ctr"/>
        <c:lblOffset val="100"/>
        <c:noMultiLvlLbl val="0"/>
      </c:catAx>
      <c:valAx>
        <c:axId val="84714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C9C-D855-4DD2-91A8-062B4229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C1D-1D73-4EA2-B92C-60F9BB2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E0E-3FFC-43AA-AA67-16C0DB6F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4BB-56DF-4EB6-96D9-EA089C18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503-F4BD-405B-AD55-74F6763A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B18-531C-4F65-9E66-A8C312A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664-F915-4746-9D05-9DAEAD6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454-F7D9-45D0-9CF1-12734BE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F2F-5305-4397-8C9A-23BA059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1B8-43D7-4A07-9D8F-7A51386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22E-D926-439F-85FD-F56D409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108-09D2-446F-9945-07D37C4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114EA-7733-4AEE-AF69-37E05D4A0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