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97362"/>
        <c:axId val="3166820"/>
      </c:barChart>
      <c:catAx>
        <c:axId val="89297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6820"/>
        <c:crosses val="autoZero"/>
        <c:auto val="1"/>
        <c:lblAlgn val="ctr"/>
        <c:lblOffset val="100"/>
        <c:noMultiLvlLbl val="0"/>
      </c:catAx>
      <c:valAx>
        <c:axId val="3166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97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673-05ED-45E5-A209-CC83F59B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C0A-D5E3-4668-9CD3-22541DBC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E7A-299E-402B-8837-AD6ACCE5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86AE-C3BE-4BE6-AC8E-9B74D5DE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7AA-207E-4DC2-877C-339DAB35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6A2-A502-4165-9EC7-D06F9CF5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C79-27DE-4140-A294-D8591AFB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A078-A6CA-4DDB-9DF9-11A5EB3D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3D77-521C-4903-82E8-DFE167DE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BF4-DB12-4ABF-9B5C-7864DDAD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F88-24D9-4038-B576-797BB896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DBF7-DF8E-4691-9201-D67A0194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373C8-C16F-4D97-9A53-C41F557760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