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19465"/>
        <c:axId val="31784925"/>
      </c:barChart>
      <c:catAx>
        <c:axId val="71219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4925"/>
        <c:crosses val="autoZero"/>
        <c:auto val="1"/>
        <c:lblAlgn val="ctr"/>
        <c:lblOffset val="100"/>
        <c:noMultiLvlLbl val="0"/>
      </c:catAx>
      <c:valAx>
        <c:axId val="31784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19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C0D-8FFA-4152-9C8B-EF935C6F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B84-EB57-4102-98E5-AC721659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A5C-87FC-48DC-9479-33B9083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5DF-A184-4BA2-80B3-4940179F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798-D272-4A1C-9DE8-04825617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175-60D0-4BFE-97DB-852616FD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F89-2342-4303-9238-E5E9321E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961-7D1D-4021-B7F6-02227B7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FCC-9C64-4697-9BED-B32CC64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53B-49AC-496E-B5F9-07BEA0A4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A85-C980-49A0-BCCE-7B65FCD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0F1-D69E-41E4-93FA-06CB5FF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CC07-D1D8-4AE4-BC0F-EFC96F221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