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98479"/>
        <c:axId val="83698541"/>
      </c:barChart>
      <c:catAx>
        <c:axId val="19398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98541"/>
        <c:crosses val="autoZero"/>
        <c:auto val="1"/>
        <c:lblAlgn val="ctr"/>
        <c:lblOffset val="100"/>
        <c:noMultiLvlLbl val="0"/>
      </c:catAx>
      <c:valAx>
        <c:axId val="83698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98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64C-9E16-41FC-BDC5-FA291A38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7AE-D30E-4498-9E60-EA3D543A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427-7231-47A6-9537-DCD78A4F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D13-7C0F-4967-9202-8827925A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579-D57B-4024-BC48-6D76E171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2E5-232F-4603-9F6C-BFE7D024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332-96D5-4165-AA0C-138D507F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663-2073-4A66-94E0-8EFF3854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52C-3BAF-4714-8F53-F7AF3895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15D-2A50-4115-B9C9-93828EA7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FD5-FAB4-4F2A-A7D9-E059E2E4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FEB-7792-4FD7-8651-E239710F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291AE-939D-424C-B0F1-4FB187E671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