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595235"/>
        <c:axId val="7294181"/>
      </c:barChart>
      <c:catAx>
        <c:axId val="545952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94181"/>
        <c:crosses val="autoZero"/>
        <c:auto val="1"/>
        <c:lblAlgn val="ctr"/>
        <c:lblOffset val="100"/>
        <c:noMultiLvlLbl val="0"/>
      </c:catAx>
      <c:valAx>
        <c:axId val="72941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5952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6BE2-C0EE-4891-8725-948A3F407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B58A-65F9-43D5-8688-888A0BB9F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4A74-3C37-4E22-9B06-982C690DA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626D-F2BE-47F2-BD22-AE378DB58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0447-6828-47B4-80A8-41BCF1F94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F92A-E66F-41F1-8528-5792E7CD9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6B4E-D11D-4E3C-AD88-8DB30EFA2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9E02-2016-4992-BA01-0121A7108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4624-FB64-47DB-8B49-DF8EB02B7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1DEB-F3D8-4500-806B-1177262D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B33E-A461-498A-A6B8-3A2541F9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09DE-2C38-4635-A803-04692890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F7D0BB-CFA4-4793-B4EF-40A7CB7DA0D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