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01984"/>
        <c:axId val="63253933"/>
      </c:barChart>
      <c:catAx>
        <c:axId val="17101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3933"/>
        <c:crosses val="autoZero"/>
        <c:auto val="1"/>
        <c:lblAlgn val="ctr"/>
        <c:lblOffset val="100"/>
        <c:noMultiLvlLbl val="0"/>
      </c:catAx>
      <c:valAx>
        <c:axId val="63253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01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F46-47A5-4C2C-9D4E-B049B06D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354-0E73-4C3D-9E24-350F28C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234-7570-4F79-B31E-D77F1BFC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F6C-0ECC-46B7-9E80-07878FA6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A5F-B6BA-40AA-9A80-408541C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176-F405-47DE-9D13-44106EF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281-22E9-4444-9D1B-4F59EF43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9B6-910B-4C84-BB69-2889925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65A-2FA9-4F18-B1FD-37A5CCEF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F5A-5FC4-4FFB-8D4A-3CBCDEA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C5D-7D34-4EFA-BE8C-8AD83A3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EFF-FAA9-43C5-9079-50D6838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EEDD-AD79-4D87-B2DD-72B73D09D3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