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22278"/>
        <c:axId val="11927330"/>
      </c:barChart>
      <c:catAx>
        <c:axId val="36922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27330"/>
        <c:crosses val="autoZero"/>
        <c:auto val="1"/>
        <c:lblAlgn val="ctr"/>
        <c:lblOffset val="100"/>
        <c:noMultiLvlLbl val="0"/>
      </c:catAx>
      <c:valAx>
        <c:axId val="11927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22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33F-92F2-400F-B859-17FE6135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F7C-585D-440E-8FB2-5A6D4CFC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561-E4DF-48FD-9B28-DEF9443D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4EB-BF77-413A-9FB2-1A7C89A5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52B-ECD9-48BB-A4D6-1F22D2E1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D30-CA31-4953-8EB6-1F5C5A86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EE3-F1DC-49E0-B0CD-DFCBCE3B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3BA-8172-4D0D-A89F-8681A914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0E5-7239-4239-976A-0E7C9A95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C97-B36D-42F1-BC1F-50CF527A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8F9-7148-46C1-8422-DA8AA3E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3A9-726A-4FD4-B74F-A4285062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C06B1-1552-4074-9BEF-015A6B0AD9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