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92966"/>
        <c:axId val="22855737"/>
      </c:barChart>
      <c:catAx>
        <c:axId val="53092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55737"/>
        <c:crosses val="autoZero"/>
        <c:auto val="1"/>
        <c:lblAlgn val="ctr"/>
        <c:lblOffset val="100"/>
        <c:noMultiLvlLbl val="0"/>
      </c:catAx>
      <c:valAx>
        <c:axId val="22855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92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EF8-6F61-4433-906D-671E1596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081-5F37-42AE-80DB-93878814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533-27F6-487A-A1F7-D57CBA39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BA2-D2A7-4490-BA87-8DFA3BFB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FCB-F992-427D-992C-5AE03078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665-1400-48C3-832E-95BFA8C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2DB-93AB-4FC6-96D5-1BA7F073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269-3E91-4A3C-BE32-D4BD7330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1BF-8BEF-4823-827C-28FBD551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CFD-BB3F-4813-8DC8-933CD48B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21B-0B02-4C23-85B7-F2904CD7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EB2-A951-4AB2-82DA-25B6237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B46E3-D024-4EDF-9A75-31CDA782A3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