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65095"/>
        <c:axId val="25466508"/>
      </c:barChart>
      <c:catAx>
        <c:axId val="75065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6508"/>
        <c:crosses val="autoZero"/>
        <c:auto val="1"/>
        <c:lblAlgn val="ctr"/>
        <c:lblOffset val="100"/>
        <c:noMultiLvlLbl val="0"/>
      </c:catAx>
      <c:valAx>
        <c:axId val="25466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65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5D3-23E8-4079-8373-2847F68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137-E4F7-4094-805E-643104D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25D-CEE5-4D8A-92A3-A29ED7F4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91-DBFC-406E-807D-298250A3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53B-C909-4858-AB9D-4CA9A6B2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A2C-E05D-4003-A256-9FD55CF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572-1675-4479-BE9F-DF20045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E58-50B2-4E8B-AD3C-E90A764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DCC-F388-4CEC-8064-EFD308B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3FA-179B-4D32-A4FE-D38FE15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895-6071-4D05-81B7-10A9681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C3D-65F5-4A3C-BACB-E35DBC8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0554A-5382-4231-A3AC-3DDD736B0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