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806009"/>
        <c:axId val="96582281"/>
      </c:barChart>
      <c:catAx>
        <c:axId val="588060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582281"/>
        <c:crosses val="autoZero"/>
        <c:auto val="1"/>
        <c:lblAlgn val="ctr"/>
        <c:lblOffset val="100"/>
        <c:noMultiLvlLbl val="0"/>
      </c:catAx>
      <c:valAx>
        <c:axId val="965822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060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6ABE-9D2A-4B4A-9A81-C9AC74E0C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E42A-F8CE-4C90-9162-8DFFCCE2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EE55-A134-40C3-8434-AFC26D06C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AF38-76BF-4A47-A49D-C2BD56EBE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C1A6-9834-414E-AA4F-2A4F261F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BE91-6250-42A7-996A-AB36DE56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23C0-3F38-4F74-944A-6F09E291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1440-00AD-4F59-A0D2-AFBA91AC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D239-5371-4384-AE96-CC8431D5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4F5A-7605-4B29-8C7D-B5FB7A94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153A-C522-49DA-93B3-DDC41F7A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28ED-9027-497B-B383-C91AE2CE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12560-E45B-489A-8115-D7BD75AAC3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