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8147129"/>
        <c:axId val="30459000"/>
      </c:barChart>
      <c:catAx>
        <c:axId val="9814712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459000"/>
        <c:crosses val="autoZero"/>
        <c:auto val="1"/>
        <c:lblAlgn val="ctr"/>
        <c:lblOffset val="100"/>
        <c:noMultiLvlLbl val="0"/>
      </c:catAx>
      <c:valAx>
        <c:axId val="3045900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14712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68BCE-7826-4A63-91A5-36C791A42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97387-4447-49F1-B91E-2D15F0EE9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A874E-5129-4EAC-870E-4F85420BD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6DE59-AEB5-4E3E-9FC2-327E8C44F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B92AA-06B6-487F-B9BF-0D10F0446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03B82-2079-4972-A383-EA8C7E819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1F5BA-7479-4515-BC6A-34634D2BA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4991C-9A36-4263-9AE1-1DAD8E3A5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90EE3-07AE-4D60-8C5C-B750F04CC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9EE07-F41A-4471-B8E2-A16C1B1E3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B1C28-2965-4415-B231-9471761E9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F72BC-E04D-41A4-8E56-45B0F77F4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28F322-D3EF-4C65-9ABB-9D573F97B5A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