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89858"/>
        <c:axId val="62544889"/>
      </c:barChart>
      <c:catAx>
        <c:axId val="5888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44889"/>
        <c:crosses val="autoZero"/>
        <c:auto val="1"/>
        <c:lblAlgn val="ctr"/>
        <c:lblOffset val="100"/>
        <c:noMultiLvlLbl val="0"/>
      </c:catAx>
      <c:valAx>
        <c:axId val="62544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8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80D-C513-492B-9746-2A4196D7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DBC-522E-42F7-ADAB-DFA09E78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EA3-E70D-4438-9040-FC4D8D3D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B60-BEDC-4321-B816-0CC96AD9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855-D827-4AE8-A983-228D580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92E-6161-40A5-9125-AD88EFD7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BD7-4DB5-49FA-8335-9ADECD33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1FB-6EB9-4464-A622-2A1ACDE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81D-F544-4B60-AAA9-9C312DC4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495-4250-4B45-8F53-066EFA20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596-4EA2-44E5-B17A-E7ABB42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C80B-5C62-4048-97B0-0A31962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86831-566E-44A5-B1FD-DE0DFEA18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