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86950"/>
        <c:axId val="39149912"/>
      </c:barChart>
      <c:catAx>
        <c:axId val="418869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49912"/>
        <c:crosses val="autoZero"/>
        <c:auto val="1"/>
        <c:lblAlgn val="ctr"/>
        <c:lblOffset val="100"/>
        <c:noMultiLvlLbl val="0"/>
      </c:catAx>
      <c:valAx>
        <c:axId val="39149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869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8BB-5846-4C57-9893-2822CAC5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5E0-A393-45A2-944B-96BD95BF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6BB-7E16-4451-ABA0-A96852F1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BD4-AC4D-4613-9708-8629F004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466-4E0E-4C27-BC9B-D1D210E9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9E0-56BA-491B-A779-B3124172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47E-C07B-4265-BAD4-121AD185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2F7-7F11-467A-A762-A5BC675B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384-2D0F-4174-B87A-DCF5E3C4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039-7E39-427C-BEAE-8CCA3AE9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B01-315E-4717-BFD1-2BAD32C7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798-07C2-4362-AB62-72310147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2DF4D-E111-4CE4-ACB4-B71393993C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