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23262"/>
        <c:axId val="27923976"/>
      </c:barChart>
      <c:catAx>
        <c:axId val="46523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23976"/>
        <c:crosses val="autoZero"/>
        <c:auto val="1"/>
        <c:lblAlgn val="ctr"/>
        <c:lblOffset val="100"/>
        <c:noMultiLvlLbl val="0"/>
      </c:catAx>
      <c:valAx>
        <c:axId val="27923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23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C4C-3C52-4B69-9E8F-3B0C8AF0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F99-ABF2-4C4E-8E76-FBC11C53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805-E7BB-4879-A986-D7146567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F92-9C2E-4B45-A5E7-E4E9896A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DCC-8CE0-4D87-BEA7-AD784124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401-8B34-4DF5-8B71-41D832EC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FB6-302A-4A1A-A439-32AD8203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EEA-9BBA-4AA8-9F93-F5C02B0F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21D-4FEA-4618-AB70-7087744B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C74-FC36-420C-A57B-5961C753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AFC-CF04-4B69-9343-08EE94DF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9FF-CC51-4A06-8801-405E3FA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8380A-444A-495B-B038-A5CC187D13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