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83111"/>
        <c:axId val="69204757"/>
      </c:barChart>
      <c:catAx>
        <c:axId val="20983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04757"/>
        <c:crosses val="autoZero"/>
        <c:auto val="1"/>
        <c:lblAlgn val="ctr"/>
        <c:lblOffset val="100"/>
        <c:noMultiLvlLbl val="0"/>
      </c:catAx>
      <c:valAx>
        <c:axId val="69204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3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F6B-2E2A-4F6E-8CA3-072DFE33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6FD-0B0E-4139-8F19-01A4373C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D39-DE0B-44C7-AC90-7318DDEC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288-0521-4160-BBE1-E49304DF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232-0160-4479-9424-EE0F72E6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538-889B-4325-8B6B-51BA6F75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875-79F4-43C9-A2B9-414BF9E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1E8-F7E3-4144-8C53-72B921E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FA0-62E4-4080-B0F5-C9073B51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B7D-7A96-4E42-A2A2-FD778BC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41C-DE29-4B49-B43C-E654AEF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149-D325-48A4-8218-1D6D676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9ED87-CE1D-4FDB-93D5-5120B5859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